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4D81-52D7-4D3D-A5CB-75AF434A24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38A3-9C98-48E5-8E56-AB8899101BE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5729-FFA0-4B63-ADB2-52AE3C2A4BC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8B08-03AF-4FE0-85D6-02CD6C13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4C6B-8686-4474-AF6D-B500B1B5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159D-AA8A-468D-B885-9BB06A2B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A0C0-37D8-422B-BAAB-4C8F7E0F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E6E7-B0D1-4652-8007-8632D01C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AC75-1238-4F05-A549-1BA6A66D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7CCB-3F71-49A3-A8B8-BC84D6CB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017-A0FD-4326-9F6E-ED49DA7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90D8-9620-43DC-9AFD-27223412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7651-38FF-45A1-AD67-E3C24E27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AF0-A908-4018-BF8A-F2EAC50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C8FC-0112-46BE-8B64-A90F69C0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6A87-5A79-4B7D-AC38-581316A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AD87-737F-4C63-BBD6-DC628BC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971B-0B27-43F4-B53B-E888854A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0D80-BD1D-486B-85C3-1446E0B8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FDEE-AD63-4D9F-844D-396B3D16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ED15-82DA-48C7-BBEE-E5A4C42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810C-0BDC-4AD2-B702-1ACACAC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249A-F88D-46CF-9AED-A87C181E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25EA-BA8E-40BA-AD20-BB76BB35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2445-5765-4A2D-8224-3328CA8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0949-B287-48FC-B43D-0DA40AD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0E18-A5EB-49AE-B92A-975B55F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A1E-D955-4392-BEFE-D4178F23D0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422C-D52A-49FF-8E76-77427655AD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ançais 3 – Unité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lo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ire – Les pièces de la ma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Screen Shot 2013-10-16 at 9.47.43 AM.png"/>
          <p:cNvPicPr/>
          <p:nvPr/>
        </p:nvPicPr>
        <p:blipFill>
          <a:blip r:embed="rId1"/>
          <a:stretch/>
        </p:blipFill>
        <p:spPr>
          <a:xfrm>
            <a:off x="60480" y="-76320"/>
            <a:ext cx="893124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0-16T13:50:23Z</dcterms:modified>
  <cp:revision>89</cp:revision>
  <dc:subject/>
  <dc:title>Allez, viens! – Level 2</dc:title>
</cp:coreProperties>
</file>